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5E9-4B8F-4A23-A534-1C9EBD14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CDE-BE5C-43D6-81D6-41EEC19F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864-6029-4689-B205-75B0D8F3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F72-1612-4B0D-8D07-F6F7EF4A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3AF-C219-418D-8975-65556905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72A-8930-416A-95EF-1D4C88DF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3A3-7A01-47CD-984D-8B436B06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D97-9E56-46FC-876F-CCBD128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57B-2B6F-4363-89E2-08667E34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CB1-AEBD-4DC6-8FE5-58CC98B7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200-6FE6-4DD9-ACD8-1D796852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0FB-D479-4088-99CF-9EA8F085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E2CB-0AC9-4BC1-947C-414634CF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2:50:36Z</dcterms:created>
  <dc:creator>NYCDOE</dc:creator>
  <dc:description/>
  <dc:language>en-US</dc:language>
  <cp:lastModifiedBy>NYCDOE</cp:lastModifiedBy>
  <dcterms:modified xsi:type="dcterms:W3CDTF">2010-04-23T12:51:07Z</dcterms:modified>
  <cp:revision>1</cp:revision>
  <dc:subject/>
  <dc:title>Slide 1</dc:title>
</cp:coreProperties>
</file>